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14732-D5BC-4750-9920-1FC75ECAA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AB5D2-1379-40AF-AC1D-F3DDB36CD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C4DEE-20DD-4244-8BA0-9E4E93CC8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E387E-CB69-4778-973B-42591F9D5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701C0-642A-497E-AC5F-DB3253839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B888A-F033-4A7B-85E1-AB31066A2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EA580-E463-4427-9389-EB4390C06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090C8-605D-476E-B552-E2E88E62D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FDBE8-F8F2-4FC8-890A-E6AFAF87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13054-1F16-4E05-A1F1-7B41AD7E8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D129E-F1A2-494E-881A-02855DE6D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F96F7-82EA-4559-903A-3044D2801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C5AA8-BE05-42F8-99BA-E592B19BF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01BC3-3EC2-4949-B5B6-8D91D84BB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866C8-69A3-4ADE-810F-CFE5AC8D3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CB556-D9A6-4B6E-B73E-CA8613C8D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1C14B-3EC4-4847-A833-14354BA43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6A61-6749-436F-A4C6-D2C49A33F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E8667-BB89-4302-8EC0-8B8E0833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8E6D-7C0C-4151-852E-0D26A0F37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CFF2-ED6E-4480-A2CB-69DDC775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6BE2-925B-4E37-BCCE-A6F64097F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F2B0-4DDD-4CDD-9703-F247FA1C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77C6-4FCD-4BAB-9E12-B574AA1F8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75CF-9F7E-48DC-879E-6602D593093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2BAD-7294-4A5B-BF50-314C580A430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ntroduction to the Book of Revelation</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 1</a:t>
            </a:r>
            <a:endParaRPr b="0" lang="en-US" sz="3200" spc="-1" strike="noStrike">
              <a:solidFill>
                <a:srgbClr val="ffffff"/>
              </a:solidFill>
              <a:latin typeface="Tahom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ickly the view was changed and the picture disfigured, and man appeared coming out of Paradise, dismissed, humiliated, carrying a bitter crime of disobedience on his shoulders, afraid of meeting the Lord and running away from the face of divine justice.</a:t>
            </a:r>
            <a:endParaRPr b="0" lang="en-US" sz="2800" spc="-1" strike="noStrike">
              <a:solidFill>
                <a:srgbClr val="ffffff"/>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447840" indent="-447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nks to the Lord who didn't leave man living in this picture made by sin for long, but concluded His Bible with the book of Revelation, offering us a delightful picture: an opened door in heaven, eternal Paradise waiting for human beings, a divine Lord eager to embrace, heavenly harps, wedding and heavenly matrimony for the sake of man.</a:t>
            </a:r>
            <a:endParaRPr b="0" lang="en-US" sz="2800" spc="-1" strike="noStrike">
              <a:solidFill>
                <a:srgbClr val="ffffff"/>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4)</a:t>
            </a:r>
            <a:endParaRPr b="0" lang="en-US" sz="32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velation" is the book of God's perfect, infinite love towards man. It is the book of hope, the book of victory, the book of liturgy (communal worship) and heavenly hymns, the book of Heaven!</a:t>
            </a:r>
            <a:endParaRPr b="0" lang="en-US" sz="2800" spc="-1" strike="noStrike">
              <a:solidFill>
                <a:srgbClr val="ffffff"/>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acteristic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book is a symbolic book containing approximately 300 symbols. Speaking with symbols indicates that the facts mentioned here cannot be expressed or explained in human language. </a:t>
            </a:r>
            <a:endParaRPr b="0" lang="en-US" sz="2600" spc="-1" strike="noStrike">
              <a:solidFill>
                <a:srgbClr val="ffffff"/>
              </a:solidFill>
              <a:latin typeface="Tahoma"/>
            </a:endParaRPr>
          </a:p>
          <a:p>
            <a:pPr marL="429480" indent="-42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word "throne" is repeated approximately 40 times in this book, so God assures us that He opens the doors of heaven for us to ascend to Him and sit on His right side.</a:t>
            </a:r>
            <a:endParaRPr b="0" lang="en-US" sz="2600" spc="-1" strike="noStrike">
              <a:solidFill>
                <a:srgbClr val="ffffff"/>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early Church believes that the book of Revelation was the authentic work of the Evangelist St. John. </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postle Saint John mentioned his own name clearly four times in this book and did not hide it. </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is because he speaks about prophecies and in order to trust them it is necessary to know the author to whom God revealed these predictions. </a:t>
            </a:r>
            <a:endParaRPr b="0" lang="en-US" sz="2600" spc="-1" strike="noStrike">
              <a:solidFill>
                <a:srgbClr val="ffffff"/>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in)"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s for the Gospel and the three Epistles, he did not mention his name in them out of humility. However, the traces of his humility are clear in Revelation, he calls himself Christ's servant (1:1) and "your brother and companion in tribulation and in the kingdom and patience of Jesus Christ"(1:9).</a:t>
            </a:r>
            <a:endParaRPr b="0" lang="en-US" sz="2800" spc="-1" strike="noStrike">
              <a:solidFill>
                <a:srgbClr val="ffffff"/>
              </a:solidFill>
              <a:latin typeface="Tahoma"/>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Book of Revelation was written on a small island approximately 25 miles from the coasts of Asia Minor (modern day Turkey) called "Patmos". The Apostle wrote it when he was exiled (1:9).</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majority say that it was written after the ruin of Jerusalem, around 95 or 96 A.D. St. Irenaeus says that this Revelation was revealed at the end of Domitian's reign (81-96 A.D).</a:t>
            </a:r>
            <a:endParaRPr b="0" lang="en-US" sz="2600" spc="-1" strike="noStrike">
              <a:solidFill>
                <a:srgbClr val="ffffff"/>
              </a:solidFill>
              <a:latin typeface="Tahoma"/>
            </a:endParaRPr>
          </a:p>
        </p:txBody>
      </p:sp>
    </p:spTree>
  </p:cSld>
  <p:transition>
    <p:zoom dir="ou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4" dur="500"/>
                                        <p:tgtEl>
                                          <p:spTgt spid="9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5">
                                            <p:txEl>
                                              <p:pRg st="1" end="1"/>
                                            </p:txEl>
                                          </p:spTgt>
                                        </p:tgtEl>
                                        <p:attrNameLst>
                                          <p:attrName>style.visibility</p:attrName>
                                        </p:attrNameLst>
                                      </p:cBhvr>
                                      <p:to>
                                        <p:strVal val="visible"/>
                                      </p:to>
                                    </p:set>
                                    <p:animEffect filter="box(in)" transition="in">
                                      <p:cBhvr additive="repl">
                                        <p:cTn id="29"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 whom it was writte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Revelation was addressed to the seven Asian churches that were under the guidance of St. John the Evangelist. There is a special message for each church, but the book of Revelation undoubtedly carries a communal message concerning the life of Church in the whole world in all ages, especially in the days of the Antichrist.</a:t>
            </a:r>
            <a:endParaRPr b="0" lang="en-US" sz="2600" spc="-1" strike="noStrike">
              <a:solidFill>
                <a:srgbClr val="ffffff"/>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itle of the Book</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spired title of the book is "The Revelation of Jesus Christ." The Greek word "Apocalypses" is mentioned and it means "unveiling" or "uncovering" or "revealing." As for the phrase "of Jesus Christ, it means that the great historical incidents that reach the top converge in Christ and belong to Him.</a:t>
            </a:r>
            <a:endParaRPr b="0" lang="en-US" sz="2800" spc="-1" strike="noStrike">
              <a:solidFill>
                <a:srgbClr val="ffffff"/>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ok of Revelation is the unveiling of the future to see it in the hands of the Lord who controls history and is the Master of it. He is a mighty Father, planning for our victory, working with us and for us, so as to carry us to the kingdom of joy and light instead of the kingdom of darkness.</a:t>
            </a:r>
            <a:endParaRPr b="0" lang="en-US" sz="2800" spc="-1" strike="noStrike">
              <a:solidFill>
                <a:srgbClr val="ffffff"/>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438840" indent="-438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ok of Revelation is the removal of the veil to discover the Lord who worked for our salvation and is still working and will still work in the future, presenting Himself to us as a safe royal route. With this He sanctifies history: the past, the present and the future to cross with us to what's above history, to a certain eternity and to glories He prepare for us Himself.</a:t>
            </a:r>
            <a:endParaRPr b="0" lang="en-US" sz="2800" spc="-1" strike="noStrike">
              <a:solidFill>
                <a:srgbClr val="ffffff"/>
              </a:solidFill>
              <a:latin typeface="Tahoma"/>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gnificance of the Book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447840" indent="-447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elation is the only prophetic Scripture in the New Testament.  It presents Jesus Christ, the glorified King. </a:t>
            </a:r>
            <a:endParaRPr b="0" lang="en-US" sz="2800" spc="-1" strike="noStrike">
              <a:solidFill>
                <a:srgbClr val="ffffff"/>
              </a:solidFill>
              <a:latin typeface="Tahoma"/>
            </a:endParaRPr>
          </a:p>
          <a:p>
            <a:pPr marL="447840" indent="-44784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oly Bible starts with the book of Genesis that shows God's infinite love toward man. He created everything for his sake and granted him authority and such great dignity! </a:t>
            </a:r>
            <a:endParaRPr b="0" lang="en-US" sz="2800" spc="-1" strike="noStrike">
              <a:solidFill>
                <a:srgbClr val="ffffff"/>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7:00:54Z</dcterms:modified>
  <cp:revision>77</cp:revision>
  <dc:subject/>
  <dc:title>Introduction to the Catholic Epistles</dc:title>
</cp:coreProperties>
</file>